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1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D95-0BF0-4A01-9820-0AC7F26957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E15A-348D-4EA2-BF4F-BB80A0AF0A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F61-BD76-4FF1-A63F-38C2295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E3E-D85E-4C4A-AC03-BE8FAA93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F6E-354F-419F-B53E-C0186AEC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304-2B9B-4EFD-938B-597A3E53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DA7-8F77-448C-B102-3B1C1052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5E36-75FB-40EE-B25A-CB6AB88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86C-A598-4D3C-9603-9CBE85D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3A1D-4DC6-4F68-84D4-A339045B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C8EE-AA63-4D59-B1F1-19BC091B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9497-2414-43EF-A202-70B36107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DC4-5CEA-4300-B046-05BF9B5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AAB-7972-415B-856E-E2BBA08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1786-50F7-4F2B-BAF6-A12600E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53D3-BE44-4398-9444-EE78F8A3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466-8077-4ACF-8AA0-3943867B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392-F0BD-42F9-AFDF-00C63C6A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A591-0ADA-48EF-9465-A99CD166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6D4-81F2-4DC4-9470-CA7DC2A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948-54F6-4BE5-A72B-426BAC7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A93-5F66-4993-9A8E-43D4AF1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CE9-EF4A-4CA2-A147-EDCD8D59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7EF-BB3A-43DD-B942-E926595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E60-26E4-460C-8577-2834F97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2F4-CBD7-478A-B59D-C08A049F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0B4-79A3-49DC-9415-38DB42C087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4DDB-57BD-4FA5-BE5E-B512222737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3F65-5D62-425A-8B53-D263C93395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1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rozmową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8"/>
          <p:cNvSpPr/>
          <p:nvPr/>
        </p:nvSpPr>
        <p:spPr>
          <a:xfrm>
            <a:off x="3276720" y="1341360"/>
            <a:ext cx="4895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zebrać jak najwięcej informacji o firmie. Podczas rozmowy cenne mogą się okazać informacje na temat wielkości, historii lub pozycji na ryn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wiadomo, o co może zapytać osoba rekrutująca, dobrze jest być przygotowanym na różne możliwości, elastycznym i rozluźniony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ęki temu kandydat wie, dlaczego chce pracować dla danej firmy oraz co ma jej do zaoferow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736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upa 12"/>
          <p:cNvGrpSpPr/>
          <p:nvPr/>
        </p:nvGrpSpPr>
        <p:grpSpPr>
          <a:xfrm>
            <a:off x="684360" y="260280"/>
            <a:ext cx="7416720" cy="1476360"/>
            <a:chOff x="684360" y="260280"/>
            <a:chExt cx="7416720" cy="1476360"/>
          </a:xfrm>
        </p:grpSpPr>
        <p:sp>
          <p:nvSpPr>
            <p:cNvPr id="175" name="pole tekstowe 7"/>
            <p:cNvSpPr/>
            <p:nvPr/>
          </p:nvSpPr>
          <p:spPr>
            <a:xfrm>
              <a:off x="1908360" y="62028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 rozmowę kwalifikacyjną nie wolno się spóźnić ani przyjść za wcześ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260280"/>
              <a:ext cx="107604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ole tekstowe 8"/>
          <p:cNvSpPr/>
          <p:nvPr/>
        </p:nvSpPr>
        <p:spPr>
          <a:xfrm>
            <a:off x="324000" y="3573360"/>
            <a:ext cx="669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przeanalizować swoją kandydaturę – usystematyzować wiedzę o so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rze jest przeanalizować swoje słabe i mocne strony, swoje sukcesy i porażki, sprecyzować plany na przyszłość. Pracodawcy zwykle lubią osoby, które wiedzą, czego chcą i do czego dąż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upa 14"/>
          <p:cNvGrpSpPr/>
          <p:nvPr/>
        </p:nvGrpSpPr>
        <p:grpSpPr>
          <a:xfrm>
            <a:off x="250920" y="2060640"/>
            <a:ext cx="7927920" cy="3903480"/>
            <a:chOff x="250920" y="2060640"/>
            <a:chExt cx="7927920" cy="3903480"/>
          </a:xfrm>
        </p:grpSpPr>
        <p:sp>
          <p:nvSpPr>
            <p:cNvPr id="179" name="pole tekstowe 10"/>
            <p:cNvSpPr/>
            <p:nvPr/>
          </p:nvSpPr>
          <p:spPr>
            <a:xfrm>
              <a:off x="250920" y="2060640"/>
              <a:ext cx="6831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przejrzeć swoje CV – niektóre pytania mogą bazować na życiorysie, jeśli będą w nim jakieś luki, na pewno kandydat zostanie o to zapytany. Kandydat powinien być pewny wszystkich informacji umieszczonych w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3" descr=""/>
            <p:cNvPicPr/>
            <p:nvPr/>
          </p:nvPicPr>
          <p:blipFill>
            <a:blip r:embed="rId3"/>
            <a:stretch/>
          </p:blipFill>
          <p:spPr>
            <a:xfrm>
              <a:off x="7227360" y="2420640"/>
              <a:ext cx="95148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ole tekstowe 7"/>
          <p:cNvSpPr/>
          <p:nvPr/>
        </p:nvSpPr>
        <p:spPr>
          <a:xfrm>
            <a:off x="539640" y="54936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że szczególnie ważn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a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upa 16"/>
          <p:cNvGrpSpPr/>
          <p:nvPr/>
        </p:nvGrpSpPr>
        <p:grpSpPr>
          <a:xfrm>
            <a:off x="539640" y="1700280"/>
            <a:ext cx="7488360" cy="1935000"/>
            <a:chOff x="539640" y="1700280"/>
            <a:chExt cx="7488360" cy="1935000"/>
          </a:xfrm>
        </p:grpSpPr>
        <p:sp>
          <p:nvSpPr>
            <p:cNvPr id="186" name="Dowolny kształt 11"/>
            <p:cNvSpPr/>
            <p:nvPr/>
          </p:nvSpPr>
          <p:spPr>
            <a:xfrm>
              <a:off x="539640" y="1700280"/>
              <a:ext cx="7488360" cy="1935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listę pytań do pracodawcy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dowodzi to, że bierze się czynny udział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rozmowie, nie jest to więc przesłuchanie, ale konstruktywny dialo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rostokąt zaokrąglony 12"/>
            <p:cNvSpPr/>
            <p:nvPr/>
          </p:nvSpPr>
          <p:spPr>
            <a:xfrm>
              <a:off x="733320" y="1893960"/>
              <a:ext cx="1496880" cy="154764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7640"/>
                <a:gd name="textAreaBottom" fmla="*/ 1504080 h 1547640"/>
              </a:gdLst>
              <a:ahLst/>
              <a:rect l="textAreaLeft" t="textAreaTop" r="textAreaRight" b="textAreaBottom"/>
              <a:pathLst>
                <a:path w="21600" h="22332">
                  <a:moveTo>
                    <a:pt x="2160" y="0"/>
                  </a:moveTo>
                  <a:arcTo wR="2160" hR="2160" stAng="16200000" swAng="-5400000"/>
                  <a:lnTo>
                    <a:pt x="0" y="20172"/>
                  </a:lnTo>
                  <a:arcTo wR="2160" hR="2160" stAng="10800000" swAng="-5400000"/>
                  <a:lnTo>
                    <a:pt x="19440" y="2233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upa 17"/>
          <p:cNvGrpSpPr/>
          <p:nvPr/>
        </p:nvGrpSpPr>
        <p:grpSpPr>
          <a:xfrm>
            <a:off x="539640" y="3828960"/>
            <a:ext cx="7488360" cy="1935360"/>
            <a:chOff x="539640" y="3828960"/>
            <a:chExt cx="7488360" cy="1935360"/>
          </a:xfrm>
        </p:grpSpPr>
        <p:sp>
          <p:nvSpPr>
            <p:cNvPr id="189" name="Dowolny kształt 13"/>
            <p:cNvSpPr/>
            <p:nvPr/>
          </p:nvSpPr>
          <p:spPr>
            <a:xfrm>
              <a:off x="539640" y="3828960"/>
              <a:ext cx="7488360" cy="193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się do rozmowy o wynagrodzeniu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innych warunkach pracy. Podczas rozmowy nie powinno się pytać pracodawcy o wynagrodzenie. Zwykle to pracodawca pyta kandydata o jego wymagania finansowe, jeżeli uzna go za interesującego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zaokrąglony 14"/>
            <p:cNvSpPr/>
            <p:nvPr/>
          </p:nvSpPr>
          <p:spPr>
            <a:xfrm>
              <a:off x="733320" y="4022640"/>
              <a:ext cx="1496880" cy="154800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8000"/>
                <a:gd name="textAreaBottom" fmla="*/ 1504440 h 1548000"/>
              </a:gdLst>
              <a:ahLst/>
              <a:rect l="textAreaLeft" t="textAreaTop" r="textAreaRight" b="textAreaBottom"/>
              <a:pathLst>
                <a:path w="21600" h="22337">
                  <a:moveTo>
                    <a:pt x="2160" y="0"/>
                  </a:moveTo>
                  <a:arcTo wR="2160" hR="2160" stAng="16200000" swAng="-5400000"/>
                  <a:lnTo>
                    <a:pt x="0" y="20177"/>
                  </a:lnTo>
                  <a:arcTo wR="2160" hR="2160" stAng="10800000" swAng="-5400000"/>
                  <a:lnTo>
                    <a:pt x="19440" y="2233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ole tekstowe 7"/>
          <p:cNvSpPr/>
          <p:nvPr/>
        </p:nvSpPr>
        <p:spPr>
          <a:xfrm>
            <a:off x="3348000" y="1484280"/>
            <a:ext cx="49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westię pytań na rozmowie kwalifikacyjnej reguluje Kodeks pracy i Kodeks cywilny. Jeśli pracodawca pyta o więcej, niż zezwalają na to przepisy, można zażądać zadośćuczynienia pieniężnego lub zapłaty odpowiedniej sumy pieniężnej na wskazany cel społec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3370320" cy="4019760"/>
          </a:xfrm>
          <a:prstGeom prst="rect">
            <a:avLst/>
          </a:prstGeom>
          <a:ln w="0">
            <a:noFill/>
          </a:ln>
        </p:spPr>
      </p:pic>
      <p:sp>
        <p:nvSpPr>
          <p:cNvPr id="196" name="pole tekstowe 8"/>
          <p:cNvSpPr/>
          <p:nvPr/>
        </p:nvSpPr>
        <p:spPr>
          <a:xfrm>
            <a:off x="3059280" y="407664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 ma prawo odmówić odpowiedzi na podobne pytania, ale jeśli uzna to za stosowne, może udzielić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ole tekstowe 7"/>
          <p:cNvSpPr/>
          <p:nvPr/>
        </p:nvSpPr>
        <p:spPr>
          <a:xfrm>
            <a:off x="2482920" y="62064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 pytania nie powinny paś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8"/>
          <p:cNvSpPr/>
          <p:nvPr/>
        </p:nvSpPr>
        <p:spPr>
          <a:xfrm>
            <a:off x="2484360" y="1268280"/>
            <a:ext cx="57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plany osobiste na przyszłość, np. założenie rodziny lub macierzyństw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wyznanie religijne, pochodzenie etniczne, orientację seksualną i poglądy polityczne są niedopuszcz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naszą rodzinę, o wykształcenie naszych rodziców, współmałżonków, stanowiska, na jakich oni pracu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e kobiety o planowaną ciążę lub zamążpójście (ma znamiona dyskryminacji płciowe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3148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2050920" y="549360"/>
            <a:ext cx="59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rozmowa kwalifikacyjna nie była tylko jednostronnym odpytywaniem, warto również pracodawcy zadać kilka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olny kształt 11"/>
          <p:cNvSpPr/>
          <p:nvPr/>
        </p:nvSpPr>
        <p:spPr>
          <a:xfrm rot="16200000">
            <a:off x="-1020600" y="3526920"/>
            <a:ext cx="3987720" cy="844560"/>
          </a:xfrm>
          <a:custGeom>
            <a:avLst/>
            <a:gdLst/>
            <a:ahLst/>
            <a:rect l="l" t="t" r="r" b="b"/>
            <a:pathLst>
              <a:path w="3987803" h="843573">
                <a:moveTo>
                  <a:pt x="0" y="0"/>
                </a:moveTo>
                <a:lnTo>
                  <a:pt x="3987803" y="0"/>
                </a:lnTo>
                <a:lnTo>
                  <a:pt x="3987803" y="843573"/>
                </a:lnTo>
                <a:lnTo>
                  <a:pt x="0" y="8435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376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olny kształt 12"/>
          <p:cNvSpPr/>
          <p:nvPr/>
        </p:nvSpPr>
        <p:spPr>
          <a:xfrm>
            <a:off x="1258920" y="1989000"/>
            <a:ext cx="6549840" cy="39880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5040" rIns="185040" tIns="744120" bIns="18504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typowy dzień pracy na tym stanowis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możliwości rozwoju zawodowego oferuje firm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 jest pakiet świadczeń socjalnych dla pracownikó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jaki sposób pracownik jest oceniany i awansowan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oczekiwania pracodawcy wobec nowego pracow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program szkoleń i rozwoju pracownikó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cele firmy na najbliższe 5 i 10 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i w jaki sposób poznasz wynik rozmow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3"/>
          <p:cNvSpPr/>
          <p:nvPr/>
        </p:nvSpPr>
        <p:spPr>
          <a:xfrm>
            <a:off x="550800" y="843120"/>
            <a:ext cx="1687680" cy="16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dobrze zaprezento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7"/>
          <p:cNvSpPr/>
          <p:nvPr/>
        </p:nvSpPr>
        <p:spPr>
          <a:xfrm>
            <a:off x="2124000" y="3789360"/>
            <a:ext cx="46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a zasada to zadbać o swój wygląd, powinien być schludn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kobiet – bez przesadnych dekol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ężczyźni najlepiej zaprezentują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garniturze i koszuli z krawa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upa 11"/>
          <p:cNvGrpSpPr/>
          <p:nvPr/>
        </p:nvGrpSpPr>
        <p:grpSpPr>
          <a:xfrm>
            <a:off x="250920" y="1197000"/>
            <a:ext cx="7948440" cy="2160720"/>
            <a:chOff x="250920" y="1197000"/>
            <a:chExt cx="7948440" cy="2160720"/>
          </a:xfrm>
        </p:grpSpPr>
        <p:sp>
          <p:nvSpPr>
            <p:cNvPr id="216" name="pole tekstowe 6"/>
            <p:cNvSpPr/>
            <p:nvPr/>
          </p:nvSpPr>
          <p:spPr>
            <a:xfrm>
              <a:off x="250920" y="1557000"/>
              <a:ext cx="489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 stanowiska, na których dobre pierwsze wrażenie oraz dobra prezencja są szczególnie ważne (obsługa klienta), dlatego pracodawca nie tylko słucha, ale i obserwuje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1197000"/>
              <a:ext cx="2619360" cy="21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1197000" cy="25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16146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7"/>
          <p:cNvSpPr/>
          <p:nvPr/>
        </p:nvSpPr>
        <p:spPr>
          <a:xfrm>
            <a:off x="395280" y="404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żną rolę odgrywa także komunikacja niewerbalna (ton głosu, postawa, mimika). To, w jaki sposób kandydat zachowuje się podczas rozmowy, jakie gesty wykonuje, czy jest opanowany i pewny tego, co mów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175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3"/>
          <p:cNvGrpSpPr/>
          <p:nvPr/>
        </p:nvGrpSpPr>
        <p:grpSpPr>
          <a:xfrm>
            <a:off x="395280" y="2637000"/>
            <a:ext cx="7848720" cy="1584000"/>
            <a:chOff x="395280" y="2637000"/>
            <a:chExt cx="7848720" cy="1584000"/>
          </a:xfrm>
        </p:grpSpPr>
        <p:sp>
          <p:nvSpPr>
            <p:cNvPr id="226" name="pole tekstowe 8"/>
            <p:cNvSpPr/>
            <p:nvPr/>
          </p:nvSpPr>
          <p:spPr>
            <a:xfrm>
              <a:off x="2915280" y="2781000"/>
              <a:ext cx="532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mijać się z prawdą. Kandydaci podczas rozmowy kwalifikacyjnej często chwalą się rzeczami, których nie robili, dodają pewne fakty lub po prostu kłami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" descr=""/>
            <p:cNvPicPr/>
            <p:nvPr/>
          </p:nvPicPr>
          <p:blipFill>
            <a:blip r:embed="rId3"/>
            <a:stretch/>
          </p:blipFill>
          <p:spPr>
            <a:xfrm>
              <a:off x="395280" y="2637000"/>
              <a:ext cx="249516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upa 14"/>
          <p:cNvGrpSpPr/>
          <p:nvPr/>
        </p:nvGrpSpPr>
        <p:grpSpPr>
          <a:xfrm>
            <a:off x="324000" y="4508640"/>
            <a:ext cx="7902360" cy="1725480"/>
            <a:chOff x="324000" y="4508640"/>
            <a:chExt cx="7902360" cy="1725480"/>
          </a:xfrm>
        </p:grpSpPr>
        <p:sp>
          <p:nvSpPr>
            <p:cNvPr id="229" name="pole tekstowe 10"/>
            <p:cNvSpPr/>
            <p:nvPr/>
          </p:nvSpPr>
          <p:spPr>
            <a:xfrm>
              <a:off x="324000" y="4940640"/>
              <a:ext cx="51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owinna być partnerskim dialogiem, a nie jedynie wymianą oczeki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" descr=""/>
            <p:cNvPicPr/>
            <p:nvPr/>
          </p:nvPicPr>
          <p:blipFill>
            <a:blip r:embed="rId4"/>
            <a:stretch/>
          </p:blipFill>
          <p:spPr>
            <a:xfrm>
              <a:off x="5508720" y="4508640"/>
              <a:ext cx="2717640" cy="172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czątku spotkania przywitaj się zdecydowanym podaniem rę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śmiechem. Pamiętaj, że sposób podania ręki często świadcz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 osob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zapełniaczy typu „aaa”, „wie pan…”, „yyy”. Zwróć uwagę na słownic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iądź wygodnie i prosto. Nie twórz bariery między sobą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ozmówc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przesadnej gestykulacji i rozpraszających gestów. Staraj się zachować spokój i rzeczowo odpowiadaj pyt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rozmowa kwalifikacyjna jest z założenia sytuacją stresującą. Większość kandydatów jest zestresowanych na rozmow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acodawcy są tego świado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ądź uważny, słuchaj każdego pytania i nie przeryw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nie jesteś pewny, o co zostałeś zapytany, powtórz pyt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otwierdź swoje zrozumi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kończ rozmowę krótkim podsumowaniem, poproś o wizytówkę, podziękuj za spotkanie i uściśnij zdecydowanie rękę rozmówcy na pożegna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12"/>
          <p:cNvGrpSpPr/>
          <p:nvPr/>
        </p:nvGrpSpPr>
        <p:grpSpPr>
          <a:xfrm>
            <a:off x="395280" y="1341360"/>
            <a:ext cx="7561440" cy="1079640"/>
            <a:chOff x="395280" y="1341360"/>
            <a:chExt cx="7561440" cy="1079640"/>
          </a:xfrm>
        </p:grpSpPr>
        <p:sp>
          <p:nvSpPr>
            <p:cNvPr id="104" name="Prostokąt zaokrąglony 7"/>
            <p:cNvSpPr/>
            <p:nvPr/>
          </p:nvSpPr>
          <p:spPr>
            <a:xfrm>
              <a:off x="395280" y="1341360"/>
              <a:ext cx="7561440" cy="1079640"/>
            </a:xfrm>
            <a:prstGeom prst="roundRect">
              <a:avLst>
                <a:gd name="adj" fmla="val 16667"/>
              </a:avLst>
            </a:prstGeom>
            <a:solidFill>
              <a:srgbClr val="ffa7a7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ole tekstowe 6"/>
            <p:cNvSpPr/>
            <p:nvPr/>
          </p:nvSpPr>
          <p:spPr>
            <a:xfrm>
              <a:off x="467280" y="1341360"/>
              <a:ext cx="741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to spotkanie pracodawcy z kandydatem na pracownika. </a:t>
              </a:r>
              <a:br>
                <a:rPr sz="2000"/>
              </a:b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lem tego spotkania jest wymiana informacji pomiędzy kandydatem a pracodawc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ole tekstowe 8"/>
          <p:cNvSpPr/>
          <p:nvPr/>
        </p:nvSpPr>
        <p:spPr>
          <a:xfrm>
            <a:off x="468360" y="292428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rozszerzyć informacje, które zawarte były w dokumentach aplikacyj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0"/>
          <p:cNvSpPr/>
          <p:nvPr/>
        </p:nvSpPr>
        <p:spPr>
          <a:xfrm>
            <a:off x="468360" y="4149720"/>
            <a:ext cx="51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zdobyć jak najwięcej informacji na temat oferty pracodawcy oraz zaprezentować się przed pracodawcą z jak najlepszej stro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1838520" cy="26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nie robić podczas rozmow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Dowolny kształt 8"/>
          <p:cNvSpPr/>
          <p:nvPr/>
        </p:nvSpPr>
        <p:spPr>
          <a:xfrm>
            <a:off x="900000" y="5638680"/>
            <a:ext cx="7128000" cy="73980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oczekuj natychmiastowej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owolny kształt 10"/>
          <p:cNvSpPr/>
          <p:nvPr/>
        </p:nvSpPr>
        <p:spPr>
          <a:xfrm>
            <a:off x="900000" y="4510080"/>
            <a:ext cx="7128000" cy="1139760"/>
          </a:xfrm>
          <a:prstGeom prst="pie">
            <a:avLst/>
          </a:prstGeom>
          <a:solidFill>
            <a:srgbClr val="bf77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atrz na zegarek, nie okazuj zniecierpliwienia ani znud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olny kształt 11"/>
          <p:cNvSpPr/>
          <p:nvPr/>
        </p:nvSpPr>
        <p:spPr>
          <a:xfrm>
            <a:off x="900000" y="3382920"/>
            <a:ext cx="7128000" cy="1138320"/>
          </a:xfrm>
          <a:prstGeom prst="pie">
            <a:avLst/>
          </a:prstGeom>
          <a:solidFill>
            <a:srgbClr val="bd9b5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zeczowo wyjaśniaj nieścisłości w życiory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wolny kształt 12"/>
          <p:cNvSpPr/>
          <p:nvPr/>
        </p:nvSpPr>
        <p:spPr>
          <a:xfrm>
            <a:off x="900000" y="2254320"/>
            <a:ext cx="7128000" cy="1139760"/>
          </a:xfrm>
          <a:prstGeom prst="pie">
            <a:avLst/>
          </a:prstGeom>
          <a:solidFill>
            <a:srgbClr val="bcbc5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mów źle o obecnych i poprzednich pracodawcach. Zamiast tego podkreślaj swoje osiągnięcia i jakość p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wolny kształt 13"/>
          <p:cNvSpPr/>
          <p:nvPr/>
        </p:nvSpPr>
        <p:spPr>
          <a:xfrm>
            <a:off x="900000" y="1127160"/>
            <a:ext cx="7128000" cy="113832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rzesłuchuj osoby prowadzącej rozmow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ze strony pracodaw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ole tekstowe 7"/>
          <p:cNvSpPr/>
          <p:nvPr/>
        </p:nvSpPr>
        <p:spPr>
          <a:xfrm>
            <a:off x="408240" y="213372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powinien przygot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611280" y="2732040"/>
            <a:ext cx="6095880" cy="6177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e na temat firmy i stanowis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olny kształt 16"/>
          <p:cNvSpPr/>
          <p:nvPr/>
        </p:nvSpPr>
        <p:spPr>
          <a:xfrm>
            <a:off x="611280" y="3444840"/>
            <a:ext cx="6095880" cy="6174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ą ofertę dla kandy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olny kształt 17"/>
          <p:cNvSpPr/>
          <p:nvPr/>
        </p:nvSpPr>
        <p:spPr>
          <a:xfrm>
            <a:off x="611280" y="4157640"/>
            <a:ext cx="6095880" cy="61740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, jakie zada kandydatow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2"/>
          <p:cNvGrpSpPr/>
          <p:nvPr/>
        </p:nvGrpSpPr>
        <p:grpSpPr>
          <a:xfrm>
            <a:off x="324000" y="1125360"/>
            <a:ext cx="7920000" cy="719280"/>
            <a:chOff x="324000" y="1125360"/>
            <a:chExt cx="7920000" cy="719280"/>
          </a:xfrm>
        </p:grpSpPr>
        <p:sp>
          <p:nvSpPr>
            <p:cNvPr id="261" name="Prostokąt zaokrąglony 11"/>
            <p:cNvSpPr/>
            <p:nvPr/>
          </p:nvSpPr>
          <p:spPr>
            <a:xfrm>
              <a:off x="324000" y="1125360"/>
              <a:ext cx="7920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pole tekstowe 6"/>
            <p:cNvSpPr/>
            <p:nvPr/>
          </p:nvSpPr>
          <p:spPr>
            <a:xfrm>
              <a:off x="396000" y="1125360"/>
              <a:ext cx="77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codawca powinien również przygotować się do rozmowy kwalifikacyjnej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upa 18"/>
          <p:cNvGrpSpPr/>
          <p:nvPr/>
        </p:nvGrpSpPr>
        <p:grpSpPr>
          <a:xfrm>
            <a:off x="826920" y="5084640"/>
            <a:ext cx="7305840" cy="1313640"/>
            <a:chOff x="826920" y="5084640"/>
            <a:chExt cx="7305840" cy="1313640"/>
          </a:xfrm>
        </p:grpSpPr>
        <p:sp>
          <p:nvSpPr>
            <p:cNvPr id="264" name="pole tekstowe 10"/>
            <p:cNvSpPr/>
            <p:nvPr/>
          </p:nvSpPr>
          <p:spPr>
            <a:xfrm>
              <a:off x="826920" y="5084640"/>
              <a:ext cx="648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tety, często się zdarza, że pracodawcy nie wiedzą, w jaki sposób przeprowadzać rozmowy kwalifikacyjne. Kandydaci powinni być przygotowani na różnego rodzaju dziwn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nieprofesjonalne sytuacje podczas rozm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" descr=""/>
            <p:cNvPicPr/>
            <p:nvPr/>
          </p:nvPicPr>
          <p:blipFill>
            <a:blip r:embed="rId2"/>
            <a:stretch/>
          </p:blipFill>
          <p:spPr>
            <a:xfrm>
              <a:off x="7308720" y="5156640"/>
              <a:ext cx="824040" cy="122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ole tekstowe 7"/>
          <p:cNvSpPr/>
          <p:nvPr/>
        </p:nvSpPr>
        <p:spPr>
          <a:xfrm>
            <a:off x="179280" y="26028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 zastanowić się nad pytaniami, które mogą nam zostać zada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zygotować sobie odpowied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6"/>
          <p:cNvGrpSpPr/>
          <p:nvPr/>
        </p:nvGrpSpPr>
        <p:grpSpPr>
          <a:xfrm>
            <a:off x="276120" y="1704960"/>
            <a:ext cx="7763040" cy="4199040"/>
            <a:chOff x="276120" y="1704960"/>
            <a:chExt cx="7763040" cy="4199040"/>
          </a:xfrm>
        </p:grpSpPr>
        <p:grpSp>
          <p:nvGrpSpPr>
            <p:cNvPr id="271" name="Dowolny kształt 12"/>
            <p:cNvGrpSpPr/>
            <p:nvPr/>
          </p:nvGrpSpPr>
          <p:grpSpPr>
            <a:xfrm>
              <a:off x="546480" y="2570040"/>
              <a:ext cx="7492680" cy="3333960"/>
              <a:chOff x="546480" y="2570040"/>
              <a:chExt cx="7492680" cy="3333960"/>
            </a:xfrm>
          </p:grpSpPr>
          <p:pic>
            <p:nvPicPr>
              <p:cNvPr id="272" name="Dowolny kształ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" y="2570040"/>
                <a:ext cx="7492680" cy="33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608400" y="2606040"/>
                <a:ext cx="7374600" cy="32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3760" rIns="113760" tIns="612360" bIns="113760" anchor="t">
                <a:noAutofit/>
              </a:bodyPr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może mi pan/pani o sobie powiedzie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a/pani największą zalet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ma pan/pani oczekiwania finansowe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Dlaczego właśnie pana/panią powinniśmy zatrudni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i/pana największym sukcesem zawodowym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W jaki sposób mógłbyś przyczynić się do rozwoju naszej firmy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cechy powinien mieć szef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 spędza pan/pani wolny czas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są twoje długo- i krótkoterminowe cele i jak zamierzasz je osiągną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pisz trudną sytuację ze swojego życia i powiedz, jak sobie z nią poradziłeś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Prostokąt 13"/>
            <p:cNvSpPr/>
            <p:nvPr/>
          </p:nvSpPr>
          <p:spPr>
            <a:xfrm>
              <a:off x="276120" y="1704960"/>
              <a:ext cx="1378800" cy="1366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ole tekstowe 14"/>
          <p:cNvSpPr/>
          <p:nvPr/>
        </p:nvSpPr>
        <p:spPr>
          <a:xfrm>
            <a:off x="2411280" y="1844640"/>
            <a:ext cx="489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sta kilku podstawowych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ole tekstowe 13"/>
          <p:cNvSpPr/>
          <p:nvPr/>
        </p:nvSpPr>
        <p:spPr>
          <a:xfrm>
            <a:off x="179280" y="33336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może być prowadzona przez różne osob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zasad obowiązujących w firm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ę może poprowadzić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olny kształt 19"/>
          <p:cNvSpPr/>
          <p:nvPr/>
        </p:nvSpPr>
        <p:spPr>
          <a:xfrm>
            <a:off x="46836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zyszły           bezpośredni przełożony kandy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22"/>
          <p:cNvSpPr/>
          <p:nvPr/>
        </p:nvSpPr>
        <p:spPr>
          <a:xfrm>
            <a:off x="3132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acownik działu kad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796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yrektor, właściciel firm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az 16" descr="ludzie5.jpg"/>
          <p:cNvPicPr/>
          <p:nvPr/>
        </p:nvPicPr>
        <p:blipFill>
          <a:blip r:embed="rId2"/>
          <a:stretch/>
        </p:blipFill>
        <p:spPr>
          <a:xfrm>
            <a:off x="468360" y="2205000"/>
            <a:ext cx="2232000" cy="1944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117" name="Obraz 20" descr="ludzie37.jpg"/>
          <p:cNvPicPr/>
          <p:nvPr/>
        </p:nvPicPr>
        <p:blipFill>
          <a:blip r:embed="rId3"/>
          <a:stretch/>
        </p:blipFill>
        <p:spPr>
          <a:xfrm>
            <a:off x="5796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8" name="Obraz 23" descr="ludzie18.jpg"/>
          <p:cNvPicPr/>
          <p:nvPr/>
        </p:nvPicPr>
        <p:blipFill>
          <a:blip r:embed="rId4"/>
          <a:stretch/>
        </p:blipFill>
        <p:spPr>
          <a:xfrm>
            <a:off x="3132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7"/>
          <p:cNvSpPr/>
          <p:nvPr/>
        </p:nvSpPr>
        <p:spPr>
          <a:xfrm>
            <a:off x="324000" y="40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już pracodawca zaprosi kandydata na rozmowę kwalifikacyjną, może ją przeprowadzić na kilka sposob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8"/>
          <p:cNvSpPr/>
          <p:nvPr/>
        </p:nvSpPr>
        <p:spPr>
          <a:xfrm>
            <a:off x="324000" y="13413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żna się spotkać zatem z rozmow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10"/>
          <p:cNvSpPr/>
          <p:nvPr/>
        </p:nvSpPr>
        <p:spPr>
          <a:xfrm>
            <a:off x="402120" y="1844640"/>
            <a:ext cx="289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dardow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siewową (wstępn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tres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komis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 telef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8"/>
          <a:stretch/>
        </p:blipFill>
        <p:spPr>
          <a:xfrm>
            <a:off x="3276720" y="3357720"/>
            <a:ext cx="463860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upa 13"/>
          <p:cNvGrpSpPr/>
          <p:nvPr/>
        </p:nvGrpSpPr>
        <p:grpSpPr>
          <a:xfrm>
            <a:off x="250920" y="260280"/>
            <a:ext cx="8066160" cy="2228400"/>
            <a:chOff x="250920" y="260280"/>
            <a:chExt cx="8066160" cy="2228400"/>
          </a:xfrm>
        </p:grpSpPr>
        <p:sp>
          <p:nvSpPr>
            <p:cNvPr id="130" name="pole tekstowe 7"/>
            <p:cNvSpPr/>
            <p:nvPr/>
          </p:nvSpPr>
          <p:spPr>
            <a:xfrm>
              <a:off x="2915640" y="260280"/>
              <a:ext cx="540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standardowa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kłada się ze stałych punktów: po krótkim przedstawieniu się pracodawca udziela informacji o firmie oraz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stanowisku i obowiązkach przyszłego pracownika, następnie będzie chciał uzyskać informacje o kandydacie i prosi o wyjaśnienie lub uszczegółowienie informacji zawartych w CV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" descr=""/>
            <p:cNvPicPr/>
            <p:nvPr/>
          </p:nvPicPr>
          <p:blipFill>
            <a:blip r:embed="rId2"/>
            <a:stretch/>
          </p:blipFill>
          <p:spPr>
            <a:xfrm>
              <a:off x="250920" y="548280"/>
              <a:ext cx="2608920" cy="16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upa 14"/>
          <p:cNvGrpSpPr/>
          <p:nvPr/>
        </p:nvGrpSpPr>
        <p:grpSpPr>
          <a:xfrm>
            <a:off x="250920" y="2637000"/>
            <a:ext cx="7902360" cy="1923480"/>
            <a:chOff x="250920" y="2637000"/>
            <a:chExt cx="7902360" cy="1923480"/>
          </a:xfrm>
        </p:grpSpPr>
        <p:sp>
          <p:nvSpPr>
            <p:cNvPr id="133" name="pole tekstowe 8"/>
            <p:cNvSpPr/>
            <p:nvPr/>
          </p:nvSpPr>
          <p:spPr>
            <a:xfrm>
              <a:off x="250920" y="2637000"/>
              <a:ext cx="525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siewowa (wstępna)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j zadaniem jest wyłonienie osób, które nie spełniają wymagań stanowiska, rozmowa ogranicza się do zadawania pytań według wytycznych. Taką rozmowę stosuje się zwykle, gdy jest wielu kandydatów na dane stanowisk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3" descr=""/>
            <p:cNvPicPr/>
            <p:nvPr/>
          </p:nvPicPr>
          <p:blipFill>
            <a:blip r:embed="rId3"/>
            <a:stretch/>
          </p:blipFill>
          <p:spPr>
            <a:xfrm>
              <a:off x="5579640" y="2780640"/>
              <a:ext cx="2573640" cy="16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upa 16"/>
          <p:cNvGrpSpPr/>
          <p:nvPr/>
        </p:nvGrpSpPr>
        <p:grpSpPr>
          <a:xfrm>
            <a:off x="1042920" y="4724280"/>
            <a:ext cx="7201080" cy="1923480"/>
            <a:chOff x="1042920" y="4724280"/>
            <a:chExt cx="7201080" cy="1923480"/>
          </a:xfrm>
        </p:grpSpPr>
        <p:sp>
          <p:nvSpPr>
            <p:cNvPr id="136" name="pole tekstowe 10"/>
            <p:cNvSpPr/>
            <p:nvPr/>
          </p:nvSpPr>
          <p:spPr>
            <a:xfrm>
              <a:off x="3707280" y="4724280"/>
              <a:ext cx="453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w stresi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pracodawca chce sprawdzić, jak kandydat radzi sobie w trudnych sytuacjach, dlatego zachowuje się np. złośliwie. Tego typu rozmowę stosuje się, gdy kandydat będzie musiał pracować w stresujących warunka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4"/>
            <a:stretch/>
          </p:blipFill>
          <p:spPr>
            <a:xfrm>
              <a:off x="1042920" y="4868280"/>
              <a:ext cx="2573640" cy="163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upa 11"/>
          <p:cNvGrpSpPr/>
          <p:nvPr/>
        </p:nvGrpSpPr>
        <p:grpSpPr>
          <a:xfrm>
            <a:off x="250920" y="549360"/>
            <a:ext cx="7777080" cy="2706480"/>
            <a:chOff x="250920" y="549360"/>
            <a:chExt cx="7777080" cy="2706480"/>
          </a:xfrm>
        </p:grpSpPr>
        <p:sp>
          <p:nvSpPr>
            <p:cNvPr id="142" name="pole tekstowe 7"/>
            <p:cNvSpPr/>
            <p:nvPr/>
          </p:nvSpPr>
          <p:spPr>
            <a:xfrm>
              <a:off x="250920" y="549360"/>
              <a:ext cx="777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d komisj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2–3 osoby, spośród których jedna zadaje pytania, pozostałe przyglądają się i słuchają. Tego typu rozmowy bywają bardzo stresujące dla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4571640" y="1485000"/>
              <a:ext cx="2789640" cy="17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upa 12"/>
          <p:cNvGrpSpPr/>
          <p:nvPr/>
        </p:nvGrpSpPr>
        <p:grpSpPr>
          <a:xfrm>
            <a:off x="250920" y="3573360"/>
            <a:ext cx="7705800" cy="2881440"/>
            <a:chOff x="250920" y="3573360"/>
            <a:chExt cx="7705800" cy="2881440"/>
          </a:xfrm>
        </p:grpSpPr>
        <p:sp>
          <p:nvSpPr>
            <p:cNvPr id="145" name="pole tekstowe 8"/>
            <p:cNvSpPr/>
            <p:nvPr/>
          </p:nvSpPr>
          <p:spPr>
            <a:xfrm>
              <a:off x="250920" y="3573360"/>
              <a:ext cx="770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z telefo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st zbliżona do rozmowy przesiewowej i ma wyjaśnić wątpliwości powstałe w trakcie analizy. Rozmowa telefoniczna pozwala zaoszczędzić czas zarówno kandydata, jak i pracodaw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3" descr=""/>
            <p:cNvPicPr/>
            <p:nvPr/>
          </p:nvPicPr>
          <p:blipFill>
            <a:blip r:embed="rId3"/>
            <a:stretch/>
          </p:blipFill>
          <p:spPr>
            <a:xfrm>
              <a:off x="2411280" y="4725360"/>
              <a:ext cx="2724480" cy="172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upa 11"/>
          <p:cNvGrpSpPr/>
          <p:nvPr/>
        </p:nvGrpSpPr>
        <p:grpSpPr>
          <a:xfrm>
            <a:off x="324000" y="476280"/>
            <a:ext cx="7848360" cy="5999040"/>
            <a:chOff x="324000" y="476280"/>
            <a:chExt cx="7848360" cy="5999040"/>
          </a:xfrm>
        </p:grpSpPr>
        <p:sp>
          <p:nvSpPr>
            <p:cNvPr id="151" name="pole tekstowe 7"/>
            <p:cNvSpPr/>
            <p:nvPr/>
          </p:nvSpPr>
          <p:spPr>
            <a:xfrm>
              <a:off x="324000" y="476280"/>
              <a:ext cx="7848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środek oceny) – jest metodą skutecznej weryfikacji zawodowej, stanowi zbiór testów i narzędzi sprawdzających, które mają na celu umożliwić obsadzenie najlepiej dopasowanych kandydatów na stanowisko pra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stosuje się poprzez powołanie grupy ekspertów, którzy oceniają małą, kilkuosobową grupę kandydatów pod względem kwalifikacji, cech osobowych i zacho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" descr=""/>
            <p:cNvPicPr/>
            <p:nvPr/>
          </p:nvPicPr>
          <p:blipFill>
            <a:blip r:embed="rId2"/>
            <a:stretch/>
          </p:blipFill>
          <p:spPr>
            <a:xfrm>
              <a:off x="2988000" y="4509360"/>
              <a:ext cx="3096000" cy="196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7"/>
          <p:cNvSpPr/>
          <p:nvPr/>
        </p:nvSpPr>
        <p:spPr>
          <a:xfrm>
            <a:off x="324000" y="404640"/>
            <a:ext cx="7848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rupa wykonuje specjalnie przygotowane ćwiczenia, powiąza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daniami, które wykonywać będą musieli jako pracownic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dstawie wyników sesji grupowych i rozmów indywidualnych grupa ekspertów podejmuje decyzję na temat kandydat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  jest o wiele skuteczniejsze niż zwykła rozmowa kwalifikacyjna, ponieważ sprawdza kompetencje kandydatów w praktyce. Jednak wysokie koszty i długi czas przygotowania takiego spotkania sprawiają, że stosuje się je jedynie podczas rekrutacji na wysokie stanowisk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059280" y="2484360"/>
            <a:ext cx="266220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przygotować do rozmowy kwalifikacyjnej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844640"/>
            <a:ext cx="4321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m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że może to być jedyna okazja, aby spotkać się z pracodawcą, więc liczy się nie tylko wygląd i pierwsze wrażenie, ale także merytoryczne przygotowanie do rozmow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250920" y="3860640"/>
            <a:ext cx="43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decyduje o tym, czy pracodawca zechce przedstawić kandydatowi ofertę pracy. Kandydat powinien pamiętać, że rozmowa kwalifikacyjna jest zaawansowanym etapem procesu rekrut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365292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21:38:30Z</dcterms:created>
  <dc:creator>x</dc:creator>
  <dc:description/>
  <dc:language>en-US</dc:language>
  <cp:lastModifiedBy>Marta</cp:lastModifiedBy>
  <dcterms:modified xsi:type="dcterms:W3CDTF">2013-01-31T15:12:16Z</dcterms:modified>
  <cp:revision>68</cp:revision>
  <dc:subject/>
  <dc:title>Slajd 1</dc:title>
</cp:coreProperties>
</file>